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32D5-3233-438F-85FA-7D11A97E9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416A-B479-4594-91FB-58B59489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09BB-98DB-4DAB-8205-24CBA37BA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7E08-852A-4F7C-813C-92052689A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03B1-F3BE-41E5-82F0-F4D38AACA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03E7-624F-4754-9870-412FE59F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EB65-2C18-42D2-BED6-40D7FB56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C7CA-B074-412D-9ADC-28E0B483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6976-30A7-4AED-8EDB-017D6B58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1138-9D6A-4CF7-9F71-8C0F2198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990C-F220-42CA-86C3-9B38F5EA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4591-9A15-41A1-8391-254D6A72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1794-7CF8-4A5E-9693-4CED1D27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70BD-5B46-4C8F-AC0E-3F30E458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4BFF-E1C2-4B5D-9FBB-C4C8B904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6584-381B-47B7-953F-597CC6C26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340B-94C5-4CFD-B0FD-3BEAD366E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71681-6EBF-449C-B84F-6AAF30CC5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7DD4A-0551-4C1B-81D6-53AB3858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4AB5A-3D00-4ECC-B1A1-4364D871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3D922-5117-46B3-BD9A-1AD32A5B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8C2DE-C6E2-40F2-8714-11CA0993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2FA3-C7B9-4365-AA82-C58E8452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3CAB0-CBD7-42C6-A612-12A90310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49724-A5E9-4CB3-BA9D-5A13C241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171AE-DCF7-4F0D-BBB7-D2B8F393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E61FB-93BE-4202-B2EC-F7B7B146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77A54-7229-4237-85CE-02B2BDE7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96A11-F214-4882-9EAB-D054FC7C0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F9FD1-D193-471C-8284-7DD6F97E1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81FD-6262-4C6F-A741-A1E4B09C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BC8F-BCCB-458A-B09D-D879BE5C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C24C-1479-4693-9741-EF408FF6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A4CA-C970-413C-9682-D06D7CC7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3F0F-3F2B-451A-A662-DD1F6C41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4E4C-7961-478E-B509-7443E1C6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8A89-D158-425D-A884-C0C08DA31C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0DC5-0E4B-4E9D-A49B-F37BB67D11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87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89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0A92-0D31-44D7-85B5-C254F3D9F2F1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SDANht5JPmg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The Wing and I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285640" y="3747600"/>
            <a:ext cx="5638680" cy="17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Hassle-free Dissection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543800" cy="119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uman Equivalents?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chickensklargequestns"/>
          <p:cNvPicPr/>
          <p:nvPr/>
        </p:nvPicPr>
        <p:blipFill>
          <a:blip r:embed="rId1"/>
          <a:stretch/>
        </p:blipFill>
        <p:spPr>
          <a:xfrm>
            <a:off x="1219320" y="2438280"/>
            <a:ext cx="640080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16256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Sample Question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spcAft>
                <a:spcPts val="1375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What tissue is referred to when one speaks of the “meat” of a chicken?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spcAft>
                <a:spcPts val="1375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What is the function of a ligament?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spcAft>
                <a:spcPts val="1375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What is the function of a tendon? 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spcAft>
                <a:spcPts val="1375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Name the two main types of movement that occur when a wing is raised and lowered in flight.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spcAft>
                <a:spcPts val="1375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What bone in the wing is connected to the chicken’s body at the shoulder?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spcAft>
                <a:spcPts val="1375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Name the two bones found in the forearm of the wing. 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spcAft>
                <a:spcPts val="1375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What types of joint move the wing?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spcAft>
                <a:spcPts val="1375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What type of muscle did you observe?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4876920" y="3276720"/>
            <a:ext cx="3962160" cy="3178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rcRect l="-17723" t="-598" r="44493" b="609"/>
          <a:stretch/>
        </p:blipFill>
        <p:spPr>
          <a:xfrm>
            <a:off x="-533520" y="457200"/>
            <a:ext cx="502920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157880" cy="127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afety Instruction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Chicken may be contaminated with Salmonella!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You must wear gloves and goggles at all times.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Keep gloved hands away from your mouth and face!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Do not touch other surfaces after handling the chicken.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All waste must be placed in a plastic bag!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Be careful with surgical instruments!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urgical instruments must be washed with soap and water, and placed in the beaker by the sink.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Your work surface must be wiped down with soap and water.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When all of this is finished, remove your gloves and wash your hands and wrists with soap and water.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96480"/>
            <a:ext cx="70232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Goggles – put them on!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Gloves – put them on!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2 paper plates – keep together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Dissecting kit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Zippered bag for tissue disposal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Your instructor will bring you a chicken wing.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2286000"/>
            <a:ext cx="75438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VIDEO </a:t>
            </a:r>
            <a:r>
              <a:rPr b="1" lang="en-US" sz="54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DISSECTION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737388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92929"/>
                </a:solidFill>
                <a:latin typeface="Arial"/>
              </a:rPr>
              <a:t>Procedure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  <a:ea typeface="Arial"/>
              </a:rPr>
              <a:t>Carefully extend the wing and identify the sections and joints.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  <a:ea typeface="Arial"/>
              </a:rPr>
              <a:t>Remove as much skin from the thickest parts of the wing as possible.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Try not to damage the muscles underneath.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2" name="Picture 5" descr="chicken1"/>
          <p:cNvPicPr/>
          <p:nvPr/>
        </p:nvPicPr>
        <p:blipFill>
          <a:blip r:embed="rId1"/>
          <a:stretch/>
        </p:blipFill>
        <p:spPr>
          <a:xfrm>
            <a:off x="1371600" y="434340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chicken2"/>
          <p:cNvPicPr/>
          <p:nvPr/>
        </p:nvPicPr>
        <p:blipFill>
          <a:blip r:embed="rId2"/>
          <a:stretch/>
        </p:blipFill>
        <p:spPr>
          <a:xfrm>
            <a:off x="4952880" y="4343400"/>
            <a:ext cx="28195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737388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92929"/>
                </a:solidFill>
                <a:latin typeface="Arial"/>
              </a:rPr>
              <a:t>Procedure part 2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spcAft>
                <a:spcPts val="1576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  <a:ea typeface="Arial"/>
              </a:rPr>
              <a:t>Identify skin, bone, muscle, tendon, ligament, cartilage and fat. 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spcAft>
                <a:spcPts val="1576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  <a:ea typeface="Arial"/>
              </a:rPr>
              <a:t>Hold the wing down at each joint and alternately pull on each muscle group.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spcAft>
                <a:spcPts val="1349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  <a:ea typeface="Arial"/>
              </a:rPr>
              <a:t>Identify the flexors and extensors.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spcAft>
                <a:spcPts val="1576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  <a:ea typeface="Arial"/>
              </a:rPr>
              <a:t>What happens to wing movement when you cut a muscle?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562520" cy="127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endons and Ligament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chicken3"/>
          <p:cNvPicPr/>
          <p:nvPr/>
        </p:nvPicPr>
        <p:blipFill>
          <a:blip r:embed="rId1"/>
          <a:stretch/>
        </p:blipFill>
        <p:spPr>
          <a:xfrm>
            <a:off x="990720" y="2438280"/>
            <a:ext cx="3200400" cy="2656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chicken4"/>
          <p:cNvPicPr/>
          <p:nvPr/>
        </p:nvPicPr>
        <p:blipFill>
          <a:blip r:embed="rId2"/>
          <a:stretch/>
        </p:blipFill>
        <p:spPr>
          <a:xfrm>
            <a:off x="4952880" y="2438280"/>
            <a:ext cx="3541680" cy="26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48640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526160" cy="112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92929"/>
                </a:solidFill>
                <a:latin typeface="Arial"/>
              </a:rPr>
              <a:t>Clean Up!!!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61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  <a:ea typeface="Arial"/>
              </a:rPr>
              <a:t>Place all chicken parts in small bag.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  <a:ea typeface="Arial"/>
              </a:rPr>
              <a:t>Place all materials in garbage bag.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  <a:ea typeface="Times New Roman"/>
              </a:rPr>
              <a:t>Use soap and water for </a:t>
            </a: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  <a:ea typeface="Times New Roman"/>
              </a:rPr>
              <a:t>all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  <a:ea typeface="Times New Roman"/>
              </a:rPr>
              <a:t> clean-up.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  <a:ea typeface="Arial"/>
              </a:rPr>
              <a:t>Clean dissection tools 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Place in beaker next to sink.  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  <a:ea typeface="Arial"/>
              </a:rPr>
              <a:t>Wipe down your tray and bench.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  <a:ea typeface="Arial"/>
              </a:rPr>
              <a:t>Wash your hands thoroughly. 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18:14:04Z</dcterms:created>
  <dc:creator>PGHS</dc:creator>
  <dc:description/>
  <dc:language>en-US</dc:language>
  <cp:lastModifiedBy>Cynthia J. Moore</cp:lastModifiedBy>
  <dcterms:modified xsi:type="dcterms:W3CDTF">2011-04-27T16:47:42Z</dcterms:modified>
  <cp:revision>22</cp:revision>
  <dc:subject/>
  <dc:title>Chicken Wing Dissection</dc:title>
</cp:coreProperties>
</file>